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gif" ContentType="image/gif"/>
  <Override PartName="/ppt/media/image9.png" ContentType="image/png"/>
  <Override PartName="/ppt/media/image1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laser.wav" ContentType="audio/x-wav"/>
  <Override PartName="/ppt/media/image12.wmf" ContentType="image/x-wmf"/>
  <Override PartName="/ppt/media/chimes.wav" ContentType="audio/x-wav"/>
  <Override PartName="/ppt/media/image6.jpeg" ContentType="image/jpeg"/>
  <Override PartName="/ppt/media/image5.jpeg" ContentType="image/jpeg"/>
  <Override PartName="/ppt/media/type.wav" ContentType="audio/x-wav"/>
  <Override PartName="/ppt/media/image1.jpeg" ContentType="image/jpeg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DEC2-FBFE-44ED-A249-282C372D5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2A27-7C80-497F-B81C-1D7B2B0D7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F170-0F7A-45B5-BF3C-0EE3F2C60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FEDF-D4DC-4A30-9AD7-4E60E99E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74A1-9FAB-4297-A6C5-E34DE85CF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3BB3-FBBC-494E-B99C-4AFCF29DB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7E3E-57C9-4E33-A765-7D566AAB6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C662-E9C7-4696-928A-CECEAE28A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BF02-5842-4AFE-AF31-FD357180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B645-BFCA-4A7A-BE6B-920CF628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B629D-95EE-436C-9E6D-1C5B37DCA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B9E6-AD10-47F8-9226-CC496EA93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F9F2-26DE-4BCB-893C-8854A019D43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wmf"/><Relationship Id="rId3" Type="http://schemas.openxmlformats.org/officeDocument/2006/relationships/slide" Target="slide19.xml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wmf"/><Relationship Id="rId3" Type="http://schemas.openxmlformats.org/officeDocument/2006/relationships/slide" Target="slide19.xml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wmf"/><Relationship Id="rId3" Type="http://schemas.openxmlformats.org/officeDocument/2006/relationships/slide" Target="slide19.xml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9.xml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laser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Unit 4   Feed the World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58920" y="3141360"/>
            <a:ext cx="6400800" cy="69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Times New Roman"/>
              </a:rPr>
              <a:t>Lesson 15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8640720" cy="497988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686520" y="404640"/>
            <a:ext cx="610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e hungry worl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86520" y="404640"/>
            <a:ext cx="610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e hungry worl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1557360"/>
            <a:ext cx="9144000" cy="53006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50000">
              <a:srgbClr val="17175e"/>
            </a:gs>
            <a:gs pos="100000">
              <a:srgbClr val="33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86520" y="404640"/>
            <a:ext cx="6107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e hungry worl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979640" y="1484280"/>
            <a:ext cx="4537080" cy="537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686160" y="404640"/>
            <a:ext cx="65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The hungry world 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7560" y="0"/>
            <a:ext cx="6631920" cy="825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Reading Comprehens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279440"/>
            <a:ext cx="9396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kim the text to find which of the follow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4000" spc="-1" strike="noStrike" u="sng">
                <a:solidFill>
                  <a:srgbClr val="000000"/>
                </a:solidFill>
                <a:uFillTx/>
                <a:latin typeface="Times New Roman"/>
              </a:rPr>
              <a:t>can be the argument of the passage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. Something can be done to make su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at no one in the world goes hung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B. The human race has the information an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perience to protect people from go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hungr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. Humans have not been wise enough 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make correct decisions to stop starv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-347400" y="404640"/>
            <a:ext cx="9878400" cy="545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How many evidences can be fou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o support the argument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.Two.        B. Three.       C. Fou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And What are they?  Read again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4.Does the writer give some advi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n how to solve the problem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pic>
        <p:nvPicPr>
          <p:cNvPr id="90" name="strawb" descr=""/>
          <p:cNvPicPr/>
          <p:nvPr/>
        </p:nvPicPr>
        <p:blipFill>
          <a:blip r:embed="rId2"/>
          <a:stretch/>
        </p:blipFill>
        <p:spPr>
          <a:xfrm>
            <a:off x="6781680" y="190512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85800" y="2006280"/>
            <a:ext cx="7772400" cy="40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Times New Roman"/>
              </a:rPr>
              <a:t>In EU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)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2895480"/>
            <a:ext cx="7239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cc"/>
                </a:solidFill>
                <a:latin typeface="Arial"/>
              </a:rPr>
              <a:t>Food is bought from farmers and thrown a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4800600"/>
            <a:ext cx="6933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Farmers are paid not to grow crop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80880"/>
            <a:ext cx="822960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Times New Roman"/>
              </a:rPr>
              <a:t>Reasons for world hunger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600" spc="-1" strike="noStrike">
                <a:solidFill>
                  <a:srgbClr val="000000"/>
                </a:solidFill>
                <a:latin typeface="Times New Roman"/>
              </a:rPr>
              <a:t>In India: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____________________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066680" y="3733920"/>
            <a:ext cx="7467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99"/>
                </a:solidFill>
                <a:latin typeface="Arial"/>
              </a:rPr>
              <a:t>Most land is owned by rich landowners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53352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n less-developed countries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_______________________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85800" y="2054880"/>
            <a:ext cx="784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Farmers are forced to plant cash crops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n western countries: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6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________________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90720" y="28954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Arial"/>
              </a:rPr>
              <a:t>Grain is fed to beef cattle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7200" y="0"/>
            <a:ext cx="3794040" cy="703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Task 1: Re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762120"/>
            <a:ext cx="8964720" cy="67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英汉互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1. Today farming employs more people th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ny other type of wor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 For one thing, two thirds of the earth’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urface is water, although this do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provide a lot of food in the form of fis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农田正在一天天地减少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9520" y="6064200"/>
            <a:ext cx="887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</a:rPr>
              <a:t>Farmland is becoming smaller  day by d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0" y="457200"/>
            <a:ext cx="91440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Times New Roman"/>
              </a:rPr>
              <a:t>Now listen to the tape of the text and answer the following questi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00400"/>
            <a:ext cx="914400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GB" sz="4000" spc="-1" strike="noStrike">
                <a:solidFill>
                  <a:srgbClr val="000000"/>
                </a:solidFill>
                <a:latin typeface="Times New Roman"/>
              </a:rPr>
              <a:t>.Do you think the human race can do something to make sure that  no one in the world goes hungry?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5029200"/>
            <a:ext cx="2522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0000ff"/>
                </a:solidFill>
                <a:latin typeface="Arial"/>
              </a:rPr>
              <a:t>Yes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0" y="304920"/>
            <a:ext cx="91440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2. What can farmers received from the EU if they leave some of their fields free and do not plant anything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76720" y="2394000"/>
            <a:ext cx="345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66cc"/>
                </a:solidFill>
                <a:latin typeface="Arial"/>
              </a:rPr>
              <a:t>Mone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3389400"/>
            <a:ext cx="9144000" cy="22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Times New Roman"/>
              </a:rPr>
              <a:t>3.Is it possible to grow crops in hilly, dry or mountainous area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2120" y="5562720"/>
            <a:ext cx="590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ff3300"/>
                </a:solidFill>
                <a:latin typeface="Arial"/>
              </a:rPr>
              <a:t>No</a:t>
            </a:r>
            <a:r>
              <a:rPr b="1" lang="en-GB" sz="96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88720" y="420480"/>
            <a:ext cx="845964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99"/>
                </a:solidFill>
                <a:latin typeface="Times New Roman"/>
              </a:rPr>
              <a:t>Read the text again and answer more questi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4760" y="2227320"/>
            <a:ext cx="82296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1.What percentage  of    the land is farmed in the European Union?  Is there enough food to eat in the EU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06400" y="5302080"/>
            <a:ext cx="6934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3333ff"/>
                </a:solidFill>
                <a:latin typeface="Arial"/>
              </a:rPr>
              <a:t>81%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36880" y="5318280"/>
            <a:ext cx="4191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6600"/>
                </a:solidFill>
                <a:latin typeface="Arial"/>
              </a:rPr>
              <a:t>Yes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501480"/>
            <a:ext cx="8229600" cy="30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2.What do farmers in the EU do if they produce too many crops? What happens to the crop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352584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They have the right to sell their crops to the E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066680" y="51814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They are thrown away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533160"/>
            <a:ext cx="883908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3.What has been proved to be a good way to produce more foo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358128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Let farmers grow crops either to feed their family or to sell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304560"/>
            <a:ext cx="822960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4.How do the rich people in India pay the peasants who work for them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38080" y="2744640"/>
            <a:ext cx="6934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33cc"/>
                </a:solidFill>
                <a:latin typeface="Arial"/>
              </a:rPr>
              <a:t>Pay very little money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3733920"/>
            <a:ext cx="822960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5.Could food production be higher in India?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5149800"/>
            <a:ext cx="6705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ff3300"/>
                </a:solidFill>
                <a:latin typeface="Arial"/>
              </a:rPr>
              <a:t>No</a:t>
            </a:r>
            <a:r>
              <a:rPr b="1" lang="en-US" sz="10600" spc="-1" strike="noStrike">
                <a:solidFill>
                  <a:srgbClr val="990000"/>
                </a:solidFill>
                <a:latin typeface="Arial"/>
              </a:rPr>
              <a:t>.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520" y="380520"/>
            <a:ext cx="80769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6.What has been suggested then? Can this idea be put into practice?  Wh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09480" y="266688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Share the land equally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94680" y="2590920"/>
            <a:ext cx="18493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No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4560" y="3809880"/>
            <a:ext cx="856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Because most Indian politicians are landowners and they would not vote to lose their land and wealth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7.What do some less-developed countries do to develop their industr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8560" y="2114640"/>
            <a:ext cx="7543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To borrow money.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49200" y="3125880"/>
            <a:ext cx="86868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8.How  can  we   make good use of hilly,dry or mountainous  areas?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5640" y="5557680"/>
            <a:ext cx="685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cc"/>
                </a:solidFill>
                <a:latin typeface="Arial"/>
              </a:rPr>
              <a:t>To keep sheep or goa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79280" y="836640"/>
            <a:ext cx="874872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is text is about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. how to feed the world we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. people’s wrongdoings in the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. present problems in feeding the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nd some sugges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. the reason for lack of f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14440" y="340056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42920" y="260280"/>
            <a:ext cx="889308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Paragraph 2 doesn’t tell us 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in some places food is more tha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. there is not lack of food everyw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 developed countries don’ t lack for f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. how to solve the unbalance of food 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the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33520" y="44197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9880" y="404640"/>
            <a:ext cx="8829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仅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7%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土地要养活占世界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2%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的人口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5.The Chinese people are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making</a:t>
            </a:r>
            <a:r>
              <a:rPr b="1" lang="zh-CN" sz="4000" spc="-1" strike="noStrike">
                <a:solidFill>
                  <a:srgbClr val="0033cc"/>
                </a:solidFill>
                <a:latin typeface="宋体"/>
              </a:rPr>
              <a:t> gre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efforts to protect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their farmlan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.The FAO has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worked out that up to 30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0033cc"/>
                </a:solidFill>
                <a:latin typeface="Times New Roman"/>
              </a:rPr>
              <a:t>of food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is lost in stora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科学家在继续开发新型高产植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1052640"/>
            <a:ext cx="84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Only 7 % of the land has to feed 22% of the world popula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720" y="5229360"/>
            <a:ext cx="855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Scientists continue to develop new types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imes New Roman"/>
              </a:rPr>
              <a:t>Plants which produce heavier crop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449280"/>
            <a:ext cx="91440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3. In the European Union, farmers are qu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lucky  because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. the price of crop is the best in the wor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. the farmland is quite good for crop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grow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. the farming is quite developed the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. they can get money without growing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ro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80880" y="5410080"/>
            <a:ext cx="457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304920"/>
            <a:ext cx="9144000" cy="619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 Paragraph 3 tells us the problem in feeding the world also exists in _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. the crop’s quality      B. the quantity of cro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. the farmland      D. the ownership of farml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 Paragraph 3 tells us that India is not a (an)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______ count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A. developing                  B. agricultur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. fair                              D. poo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564000" y="253512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57913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380880"/>
            <a:ext cx="9144000" cy="648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6. Cash crops can’t be used to produce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oil       B. drinks       C. cigarette        D. foo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. Cash crops can’t be used to 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. make money                B. feed peop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. help less-developed countries out of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rv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. both B and 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99520" y="131112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880" y="6095880"/>
            <a:ext cx="457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533520"/>
            <a:ext cx="91440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8.What does “repay” in paragraph 4 me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pay again        B. pay back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 lend                 D. borr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9. What does “raise” in the last paragraph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ea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rise        B. increase       C. feed      D. k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754440" y="1371600"/>
            <a:ext cx="457200" cy="53352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5257800" y="5486400"/>
            <a:ext cx="45720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81080" y="380880"/>
            <a:ext cx="9144000" cy="53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0. The suggestion made in the last paragraph is that_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we should raise more cattle or shee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. we shouldn’t  raise cattle or sheep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rmla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. we shouldn’t use grain to feed catt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D. both B and 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62120" y="5105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822240" y="301680"/>
            <a:ext cx="4973760" cy="82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Language Focu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523880"/>
            <a:ext cx="457200" cy="478080"/>
          </a:xfrm>
          <a:prstGeom prst="ellipse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1680" y="1523880"/>
            <a:ext cx="9326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Useful phrase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go hungry, go mad / bad /wrong /r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go from bad to wor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2.generally / frankly / strictly/exactly/honest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pe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3.so far= up till no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4. make a deci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. Leave the fields free, leave the door op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leave him alone, leave the door unlocked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67500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Times New Roman"/>
              </a:rPr>
              <a:t>6. result in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lead to, bring abou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5280" y="1902600"/>
            <a:ext cx="827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a) result in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可用来表示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"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引起、导致或造成（某种结果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8640" y="4568760"/>
            <a:ext cx="853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2) The trial resulted in his being sentenced to two years' imprisonment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审判结果是他被判刑两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2895480"/>
            <a:ext cx="784872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The traffic accident resulted in three deaths.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起交通事故造成三人死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resulted in =cau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685800"/>
            <a:ext cx="754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re is no doubt that hard work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results in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succes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25320" y="2741760"/>
            <a:ext cx="82900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b) result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可以与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from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连用，意为“作为……的结果”，表示原因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=There is no doubt that</a:t>
            </a:r>
            <a:r>
              <a:rPr b="1" lang="zh-CN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success results from hard work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304920" y="365040"/>
            <a:ext cx="8532720" cy="53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) Her injury resulted from a fall.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她因跌倒而受伤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2) It’s said that his lameness resulted from an accident. 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据说他的瘸腿是一次事故造成的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3) Sickness often results from eating too much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疾病往往因为吃得太多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4) The accident resulted from carelessness.</a:t>
            </a:r>
            <a:r>
              <a:rPr b="1" lang="zh-CN" sz="4000" spc="-1" strike="noStrike">
                <a:solidFill>
                  <a:srgbClr val="0033cc"/>
                </a:solidFill>
                <a:latin typeface="Times New Roman"/>
              </a:rPr>
              <a:t>事故因粗心而产生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611280" y="1695600"/>
            <a:ext cx="7921440" cy="34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500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You‘re only 16; you’re too young to vote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你只有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岁，还没到选举的年龄。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2) Money for a new school was voted by the board.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创办一所新学校的钱已由董事会通过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971640" y="549360"/>
            <a:ext cx="76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vote v. n.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投票，选举，表决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80880" y="-76320"/>
            <a:ext cx="6121440" cy="5814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hose the best answ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380880"/>
            <a:ext cx="866772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--- Shall we have dinner right now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--- Oh, please. I ____ now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A. will starve       B. am starv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. Was starved   D. have starv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3470400"/>
            <a:ext cx="891540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) We traveled ___ for the purpose of reaching the village before the enemy ca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y the day            B. day by 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. day and night      D. day after d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62520" y="213372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9120" y="624852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67564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Whichever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引导让步状语从句。“不论哪一个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不管你用那种方法做这件事，结果都一样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464832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t has the same result whichever way you do it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3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9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360000" y="533520"/>
            <a:ext cx="8604360" cy="527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Raise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养育子女，饲养牲畜     相当于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keep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Raise one’s children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</a:rPr>
              <a:t>Raise pigs and cattl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79280" y="404280"/>
            <a:ext cx="8763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5 make sense: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have a meaning that can be understood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讲得通，合乎道理。有意义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doesn’t  make any sense to m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t makes very good sense to keep sheep or goa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5760" y="4222800"/>
            <a:ext cx="80769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oes this sentence make sens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you make sense of what this writer sa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？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43020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享，分担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vt. vi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e will shar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y troubles and my jo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她愿和我苦乐与共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share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in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）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roubles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joys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sorrows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worries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happiness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excitement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cost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supper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／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apple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等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are sth.with sb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与某人分享某物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但当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hare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作“合用”解时，是及物动词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We share a small room between u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hare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用作名词，意为“一份，份额”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Everybody ought to have his share of foo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76320" y="152280"/>
            <a:ext cx="897228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) “Should I fail the college exam, all my hopes ___.” She said, looking anxiou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ould be damaged  B was destroy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. was harmed     D. would be ruin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3276720"/>
            <a:ext cx="8424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) We didn’t plan our art exhibition like that but it ____ very wel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worked out     B. tried ou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. went on          D. carried 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962520" y="243828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4749840"/>
            <a:ext cx="360360" cy="43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04920" y="457200"/>
            <a:ext cx="8667720" cy="56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) “ I don’t want to buy the dress. ____, I don’t like the colour, and____ the price is ____ high.” the girl said to the shop assista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For one thing; for another; t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B. For a thing; for the other; much t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C. For one thing; for another; ve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D. For one thing; for other; to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1760" y="3073320"/>
            <a:ext cx="360360" cy="432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93824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505320" y="3124080"/>
            <a:ext cx="259056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ay (mone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477120" y="3200400"/>
            <a:ext cx="17524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in cr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14400" y="6019920"/>
            <a:ext cx="12193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co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6248520"/>
            <a:ext cx="22860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ise (pig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6172200"/>
            <a:ext cx="16002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c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93824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914400" y="2971800"/>
            <a:ext cx="9907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971800"/>
            <a:ext cx="23623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untain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00800" y="3048120"/>
            <a:ext cx="9144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23880" y="5943600"/>
            <a:ext cx="7621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91120" y="5943600"/>
            <a:ext cx="13716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o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457200"/>
            <a:ext cx="3276360" cy="2064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tar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1.500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2.40mill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952880" y="1219320"/>
            <a:ext cx="4191120" cy="53672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09480" y="2806560"/>
            <a:ext cx="3581640" cy="34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05T13:21:13Z</dcterms:created>
  <dc:creator>w</dc:creator>
  <dc:description/>
  <dc:language>en-US</dc:language>
  <cp:lastModifiedBy>w</cp:lastModifiedBy>
  <dcterms:modified xsi:type="dcterms:W3CDTF">2004-09-05T13:21:38Z</dcterms:modified>
  <cp:revision>1</cp:revision>
  <dc:subject/>
  <dc:title>Unit 4   Feed the World</dc:title>
</cp:coreProperties>
</file>